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296C-271E-4565-98F3-1EE55D9AA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2D1A-B306-485C-8A8D-87645C65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BCEE-939A-4604-B88F-FCDF777FB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2094-D995-47DA-854B-EA1E6A13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6065-AACA-4999-9E8F-1CA5467D5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0DC0-1D8B-424C-845C-41B5B87D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89F7-1EB6-41A3-85A0-AAC1C08E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B3C2-52AC-4586-8D43-ECEF2E7A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BBF1-0D87-44FB-969C-AC2EB9BA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3897-6DBA-48A8-A1F7-3E5090DB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7F5E-400A-4EFE-8028-7DFFF757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D6FB-4FB4-4EEF-B58A-5CE2D1DF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D84B-CAA5-48CA-BFB8-4DFA031F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418B-95FB-48A5-A82D-E732E445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53F6-F9EE-44E2-8228-BCB1A9D0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5E4F-CDAB-4366-967C-107E0613C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0533-E3E6-45F9-A834-953D31780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2705-CD7C-4366-A588-2FE751F4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7C4F-E262-4C08-AE44-C3132E61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A41A-D09D-41F6-9906-9301AEBB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E584-5A37-4DE9-BD56-A500AA0C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CFAA-4D5A-43B0-8993-0038C256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F1AC-221A-43DF-A89E-9BF798F1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0B00-CD60-49EC-A148-6198DF24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B4B9-C673-40CF-A538-2744439767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00DC-F3FC-4460-9493-D22052360D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Are You Ready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for the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MSA 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25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9)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A school bus is shaped approximately like a rectangular prism 10 feet high, 8 feet wide, and 40 feet long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8440" y="2895120"/>
            <a:ext cx="8007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pproximate volume of the school b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20 cu. ft        C.  1600 cu. f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00 cu. ft         D.  3200 cu. f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10)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What is 25% of 70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7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0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7.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.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68680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11)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Lunch for 14 people cost a total of $50.68.  If they share the cost equally, how much will each person pay?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3276360"/>
            <a:ext cx="80074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$3.6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$3.6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$3.7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$3.7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12)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of  these triangles  is scalene?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ngth of the sid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 m, 5 m, 5 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 yd, 6 yd. 8 y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 in. 10 in.  6 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 mi. 9 mi, 10 mi  10 m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79440" y="380880"/>
            <a:ext cx="8385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13)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What value of z makes this equation true?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       Z ÷ 7 = 1.5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.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.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.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1.5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68680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14)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Bethany bought 5/8 pound of sliced turkey .  She used 2/3 of the meat to make a sandwich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304776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uch turkey did she u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/24 pou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/12 pou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/11 pou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/6 pou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244440"/>
            <a:ext cx="8613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15)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A triangle has 2 angles that measure 50 degrees and 30 degrees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easure of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g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0 degre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80 degre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0 degre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0 degre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16)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Evaluate the expression.</a:t>
            </a:r>
            <a:br>
              <a:rPr sz="3200"/>
            </a:b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    26 – 18 + 3 x 5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81597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17)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What is the area of a triangle with a base of 8 inches and a height of 7 inches?</a:t>
            </a:r>
            <a:br>
              <a:rPr sz="40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26668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6 square inch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0 square inch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5 square inch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8 square inch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79440" y="533160"/>
            <a:ext cx="83851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18)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Kate had 5/8 of a pie.  If she ate 1/3 of this amount, how much pie did she eat?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2971800"/>
            <a:ext cx="80074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/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/2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/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1)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Which expression is equal to 38 x 514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8 + 500 x 1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8 x 500 + 1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8 + 500 x 38 +1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8 x 500 + 38 x 1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79440" y="533520"/>
            <a:ext cx="8385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19)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If x = 2.25, what is the value of this expression?</a:t>
            </a: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        X + 3.65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3048120"/>
            <a:ext cx="80074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.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.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20)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What is the value of 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2 + 5 x 4 x ( 3 – 1) ?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21)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A container measures 5 feet by 4 feet by 6 feet.  What is the total cost of filling it with insulation at $3 a cubic foot?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32763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$6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$7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$36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0592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22)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John had a piece of licorice measuring 5 and 4/5 inches.  He cut off 2 and 1/3 inches for his friend, Jake.  How long was the piece John had left?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36160" y="3581280"/>
            <a:ext cx="800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 and 7/15 inch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 and 8/15 inch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 and 2/15 inch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 and 7/15 inch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81880" cy="31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23)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There are 50 coins in a box, 10 quarters, 20 dimes,15 nickels, and 5 pennies.  If Brad picks one coin, what is the probability it will be a quarter or a dime?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4038120"/>
            <a:ext cx="800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127800" indent="-12780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0.2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127800" indent="-12780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0.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127800" indent="-12780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0.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127800" indent="-12780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0.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9000" y="304920"/>
            <a:ext cx="876600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24)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Makia tried a certain skateboard trick 10 times.  She was successful 6 times and unsuccessful 4 times. What is the probability she will be successful the next time she tries the trick?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9600" y="3809520"/>
            <a:ext cx="798336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2)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The diagram shows a triangle with angles that measure 40, 50, and 90 degrees.  Which term best describes the triangle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3505320"/>
            <a:ext cx="914400" cy="91440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86520" y="3319560"/>
            <a:ext cx="4118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ute Triang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btuse Triang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aight Triang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ght Triang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153280" cy="18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3)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This rectanglular field has a width of 80 yards and a perimeter of 600 yards.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8007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ength of the fie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20 yar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60 yar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40 yar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20 yar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1905120"/>
            <a:ext cx="182880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4)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Which list shows the numbers in order from greatest to least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80074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   7/20, 4.3, 4.28, 4  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  7/20, 4.28, 4.3, 4 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.28, 4  7/20, 4 ¼, 4.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.3, 4.28, 4  7/20, 4  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108160" y="1174680"/>
          <a:ext cx="2541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8160" y="1174680"/>
                    <a:ext cx="254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2108160" y="1174680"/>
          <a:ext cx="254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08160" y="1174680"/>
                    <a:ext cx="254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5)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number is 48 less than 0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8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4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686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6)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A ship is carrying a load of 49 tractors.  Each tractor weighs 2.96 tons.  Which is the best estimate of the total weight of the tractors?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3505320"/>
            <a:ext cx="80074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00 t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50 t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20 t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00 t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7)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Clare’s soccer team has a record of 7 wins, 3 losses, and 2 ties.  What is the probability her team will either win or tie their next game?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38098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/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/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/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/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8)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The area of a square carpet is 36 square meters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ength of each s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 met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 met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 met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8 met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3:36:28Z</dcterms:created>
  <dc:creator>ccps</dc:creator>
  <dc:description/>
  <dc:language>en-US</dc:language>
  <cp:lastModifiedBy>ccps</cp:lastModifiedBy>
  <dcterms:modified xsi:type="dcterms:W3CDTF">2010-03-08T21:12:27Z</dcterms:modified>
  <cp:revision>10</cp:revision>
  <dc:subject/>
  <dc:title> Are You Ready for the </dc:title>
</cp:coreProperties>
</file>